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679840" y="50760"/>
            <a:ext cx="3759120" cy="3682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Book Antiqua"/>
              </a:rPr>
              <a:t>Digital Image Processing, 3rd 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494160" y="630360"/>
            <a:ext cx="2131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www.ImageProcessingPlac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158760" y="1609560"/>
            <a:ext cx="8835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1414440" y="838080"/>
            <a:ext cx="751536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42840" y="6429240"/>
            <a:ext cx="25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92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8  R. C. Gonzalez &amp;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54080" y="139680"/>
            <a:ext cx="1261800" cy="14619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813120" y="39852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Gonzalez &amp; Wo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73200" y="874800"/>
            <a:ext cx="59961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ank—Go to View/Master/Slide Master to Change This Ca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7-07-29T17:21:48Z</dcterms:modified>
  <cp:revision>82</cp:revision>
  <dc:subject/>
  <dc:title>No Slide Title</dc:title>
</cp:coreProperties>
</file>