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76320"/>
          <a:ext cx="230184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6320"/>
                    <a:ext cx="230184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book" descr=""/>
          <p:cNvPicPr/>
          <p:nvPr/>
        </p:nvPicPr>
        <p:blipFill>
          <a:blip r:embed="rId4"/>
          <a:stretch/>
        </p:blipFill>
        <p:spPr>
          <a:xfrm>
            <a:off x="6480" y="4680"/>
            <a:ext cx="110304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00640" y="9360"/>
            <a:ext cx="396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Digital Image Processing, 2nd 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50160" y="228600"/>
            <a:ext cx="25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www.imageprocessingbook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93680" y="6858000"/>
            <a:ext cx="93376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1152360" y="12600"/>
            <a:ext cx="79804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660320" y="1552680"/>
            <a:ext cx="74768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933200" y="419040"/>
            <a:ext cx="72104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77760" y="647712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2 R. C. Gonzalez &amp;  R. E. W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66920" y="1849320"/>
            <a:ext cx="59659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4760" y="2325600"/>
            <a:ext cx="585144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57520" y="1946160"/>
            <a:ext cx="59659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01880" y="2092320"/>
            <a:ext cx="57751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73040" y="1590840"/>
            <a:ext cx="663732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13120" y="1565280"/>
            <a:ext cx="5976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22360" y="1879560"/>
            <a:ext cx="59817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1560600"/>
            <a:ext cx="71485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3440" y="1962000"/>
            <a:ext cx="60660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00280" y="2001960"/>
            <a:ext cx="631656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77800" y="1600200"/>
            <a:ext cx="617076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7400" y="1976400"/>
            <a:ext cx="506736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46360" y="1879560"/>
            <a:ext cx="5668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70040" y="1833480"/>
            <a:ext cx="58975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33640" y="2133720"/>
            <a:ext cx="5075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58920" y="1998720"/>
            <a:ext cx="62406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89120" y="1733400"/>
            <a:ext cx="62863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35240" y="1595520"/>
            <a:ext cx="59850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84440" y="1820880"/>
            <a:ext cx="48085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6640" y="1967040"/>
            <a:ext cx="63025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51160" y="1814400"/>
            <a:ext cx="508320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24360" y="1881360"/>
            <a:ext cx="547020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46240" y="2049480"/>
            <a:ext cx="508968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16240" y="1739880"/>
            <a:ext cx="58291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74800" y="2117880"/>
            <a:ext cx="53877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1000" y="1765440"/>
            <a:ext cx="623232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70280" y="1933560"/>
            <a:ext cx="54482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20920" y="1984320"/>
            <a:ext cx="54100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3560" y="1979640"/>
            <a:ext cx="505908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17920" y="1824120"/>
            <a:ext cx="569268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61960" y="1996920"/>
            <a:ext cx="63327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6480" y="1897200"/>
            <a:ext cx="59212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48040" y="1800360"/>
            <a:ext cx="52959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92240" y="1781280"/>
            <a:ext cx="504504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360" y="500040"/>
            <a:ext cx="2902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43000" y="2289240"/>
            <a:ext cx="63169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7:51:11Z</dcterms:created>
  <dc:creator>Gonzalez</dc:creator>
  <dc:description/>
  <dc:language>en-US</dc:language>
  <cp:lastModifiedBy>Gonzalez</cp:lastModifiedBy>
  <dcterms:modified xsi:type="dcterms:W3CDTF">2003-01-14T01:38:54Z</dcterms:modified>
  <cp:revision>99</cp:revision>
  <dc:subject/>
  <dc:title>No Slide Title</dc:title>
</cp:coreProperties>
</file>