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76320"/>
          <a:ext cx="2301840" cy="1909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76320"/>
                    <a:ext cx="230184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" name="book" descr=""/>
          <p:cNvPicPr/>
          <p:nvPr/>
        </p:nvPicPr>
        <p:blipFill>
          <a:blip r:embed="rId4"/>
          <a:stretch/>
        </p:blipFill>
        <p:spPr>
          <a:xfrm>
            <a:off x="6480" y="4680"/>
            <a:ext cx="1103040" cy="14479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00640" y="9360"/>
            <a:ext cx="396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 Antiqua"/>
              </a:rPr>
              <a:t>Digital Image Processing, 2nd 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950160" y="228600"/>
            <a:ext cx="257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www.imageprocessingbook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-193680" y="6858000"/>
            <a:ext cx="93376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1152360" y="12600"/>
            <a:ext cx="798048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1660320" y="1552680"/>
            <a:ext cx="74768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1933200" y="419040"/>
            <a:ext cx="7210440" cy="0"/>
          </a:xfrm>
          <a:prstGeom prst="line">
            <a:avLst/>
          </a:prstGeom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-77760" y="6477120"/>
            <a:ext cx="208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© 2002 R. C. Gonzalez &amp;  R. E. Woo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41400" y="2181240"/>
            <a:ext cx="564696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57520" y="1963800"/>
            <a:ext cx="4594320" cy="30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92520" y="1816200"/>
            <a:ext cx="5859360" cy="34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16000" y="1593720"/>
            <a:ext cx="4365720" cy="5227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670800" y="1674720"/>
            <a:ext cx="9302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033640" y="1843200"/>
            <a:ext cx="507528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78040" y="1874880"/>
            <a:ext cx="62560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065320" y="1900080"/>
            <a:ext cx="595944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62080" y="2193840"/>
            <a:ext cx="5684760" cy="13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52800" y="1623960"/>
            <a:ext cx="364788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322360" y="1720800"/>
            <a:ext cx="4507200" cy="180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333520" y="4052880"/>
            <a:ext cx="44467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452680" y="1779480"/>
            <a:ext cx="4281480" cy="1987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387520" y="4011480"/>
            <a:ext cx="4356360" cy="22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79680" y="1717560"/>
            <a:ext cx="5761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075040" y="1638360"/>
            <a:ext cx="62402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30280" y="1766880"/>
            <a:ext cx="63025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25560" y="2022480"/>
            <a:ext cx="62704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884160" y="2016000"/>
            <a:ext cx="488484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81560" y="1579680"/>
            <a:ext cx="3834000" cy="5241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39680" y="2100240"/>
            <a:ext cx="521964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924280" y="1608120"/>
            <a:ext cx="3406680" cy="5213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535800" y="1619280"/>
            <a:ext cx="1165320" cy="16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065320" y="1996920"/>
            <a:ext cx="6256440" cy="16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93800" y="1569960"/>
            <a:ext cx="592128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09640" y="2038320"/>
            <a:ext cx="5165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16280" y="1687680"/>
            <a:ext cx="6202080" cy="47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770120" y="1952640"/>
            <a:ext cx="59133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25520" y="1590840"/>
            <a:ext cx="467208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011320" y="1812960"/>
            <a:ext cx="509760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79680" y="2193840"/>
            <a:ext cx="59436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98480" y="2217600"/>
            <a:ext cx="5654880" cy="13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795760" y="2212920"/>
            <a:ext cx="53560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611360"/>
            <a:ext cx="4292640" cy="5210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11240" y="5818320"/>
            <a:ext cx="4460760" cy="8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957320" y="1889280"/>
            <a:ext cx="5083200" cy="121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019240" y="3421080"/>
            <a:ext cx="5067360" cy="30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40080" y="2073240"/>
            <a:ext cx="58975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025640" y="1927080"/>
            <a:ext cx="6256080" cy="29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27240" y="2255760"/>
            <a:ext cx="608004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660760" y="2054160"/>
            <a:ext cx="592128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27600" y="2084400"/>
            <a:ext cx="4487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380320" y="500040"/>
            <a:ext cx="4402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hapter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Representation &amp; Descri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52480" y="1957320"/>
            <a:ext cx="4297320" cy="13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6T17:51:11Z</dcterms:created>
  <dc:creator>Gonzalez</dc:creator>
  <dc:description/>
  <dc:language>en-US</dc:language>
  <cp:lastModifiedBy>Gonzalez</cp:lastModifiedBy>
  <dcterms:modified xsi:type="dcterms:W3CDTF">2003-01-14T01:38:07Z</dcterms:modified>
  <cp:revision>85</cp:revision>
  <dc:subject/>
  <dc:title>No Slide Title</dc:title>
</cp:coreProperties>
</file>