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56.png" ContentType="image/png"/>
  <Override PartName="/ppt/media/image55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29.png" ContentType="image/png"/>
  <Override PartName="/ppt/media/image14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31.png" ContentType="image/png"/>
  <Override PartName="/ppt/media/image2.jpeg" ContentType="image/jpeg"/>
  <Override PartName="/ppt/media/image61.png" ContentType="image/png"/>
  <Override PartName="/ppt/media/image2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76320"/>
          <a:ext cx="2301840" cy="19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6320"/>
                    <a:ext cx="230184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book" descr=""/>
          <p:cNvPicPr/>
          <p:nvPr/>
        </p:nvPicPr>
        <p:blipFill>
          <a:blip r:embed="rId4"/>
          <a:stretch/>
        </p:blipFill>
        <p:spPr>
          <a:xfrm>
            <a:off x="6480" y="4680"/>
            <a:ext cx="1103040" cy="14479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00640" y="9360"/>
            <a:ext cx="3961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Digital Image Processing, 2nd 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50160" y="228600"/>
            <a:ext cx="25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www.imageprocessingbook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93680" y="6858000"/>
            <a:ext cx="93376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1152360" y="12600"/>
            <a:ext cx="79804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1660320" y="1552680"/>
            <a:ext cx="74768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933200" y="419040"/>
            <a:ext cx="72104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77760" y="6477120"/>
            <a:ext cx="20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2 R. C. Gonzalez &amp;  R. E. Wo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1960" y="2108160"/>
            <a:ext cx="461808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60400" y="1854360"/>
            <a:ext cx="62704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62080" y="1768320"/>
            <a:ext cx="6286680" cy="38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73240" y="2271600"/>
            <a:ext cx="62787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73280" y="2165400"/>
            <a:ext cx="501300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25560" y="1770120"/>
            <a:ext cx="62182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240" y="1601640"/>
            <a:ext cx="4868640" cy="5083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189320" y="1579680"/>
            <a:ext cx="49071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25480" y="1773360"/>
            <a:ext cx="595152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74960" y="2173320"/>
            <a:ext cx="562284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87400" y="1992240"/>
            <a:ext cx="49910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93840" y="2009880"/>
            <a:ext cx="62406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23920" y="1687680"/>
            <a:ext cx="6302520" cy="34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17560" y="1890720"/>
            <a:ext cx="59356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84400" y="1687680"/>
            <a:ext cx="62182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79480" y="2141640"/>
            <a:ext cx="4411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24160" y="1943280"/>
            <a:ext cx="6294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79640" y="1768320"/>
            <a:ext cx="637056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21160" y="1857240"/>
            <a:ext cx="4647960" cy="33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2720" y="1969920"/>
            <a:ext cx="503712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379600" y="1592280"/>
            <a:ext cx="53928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28840" y="1708200"/>
            <a:ext cx="61945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92320" y="1600200"/>
            <a:ext cx="539280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65080" y="2082960"/>
            <a:ext cx="6226200" cy="14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5480" y="1801800"/>
            <a:ext cx="62866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03560" y="1835280"/>
            <a:ext cx="6012000" cy="4572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786120"/>
            <a:ext cx="513540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20600" y="2200320"/>
            <a:ext cx="537228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3400" y="2025720"/>
            <a:ext cx="59356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38480" y="1830240"/>
            <a:ext cx="59655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16120" y="2058840"/>
            <a:ext cx="486864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73320" y="1981080"/>
            <a:ext cx="525780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6800" y="1887480"/>
            <a:ext cx="569916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85880" y="2201760"/>
            <a:ext cx="485460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09760" y="2128680"/>
            <a:ext cx="63244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71800" y="16128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97040" y="1768320"/>
            <a:ext cx="62863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627280" y="1992240"/>
            <a:ext cx="56008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19120" y="1927080"/>
            <a:ext cx="627084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5000" y="2335320"/>
            <a:ext cx="62946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24040" y="1698480"/>
            <a:ext cx="6308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70000" y="1647720"/>
            <a:ext cx="62866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406760" y="1590840"/>
            <a:ext cx="3259440" cy="5267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41280" y="2220840"/>
            <a:ext cx="391644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0800" y="1817640"/>
            <a:ext cx="594360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070000" y="1847880"/>
            <a:ext cx="627876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73240" y="1770120"/>
            <a:ext cx="63165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75040" y="1916280"/>
            <a:ext cx="629424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36760" y="2027160"/>
            <a:ext cx="627048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027160" y="2376360"/>
            <a:ext cx="50896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60400" y="1946160"/>
            <a:ext cx="515952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56000" y="1808280"/>
            <a:ext cx="59277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25720" y="1987560"/>
            <a:ext cx="5037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60400" y="2079720"/>
            <a:ext cx="589752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6120" y="1762200"/>
            <a:ext cx="628668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20680" y="1566720"/>
            <a:ext cx="3448080" cy="5160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32480" y="6253200"/>
            <a:ext cx="41526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44480" y="1573200"/>
            <a:ext cx="503748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980800" y="500040"/>
            <a:ext cx="319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33640" y="1859040"/>
            <a:ext cx="50752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7:51:11Z</dcterms:created>
  <dc:creator>Gonzalez</dc:creator>
  <dc:description/>
  <dc:language>en-US</dc:language>
  <cp:lastModifiedBy>Gonzalez</cp:lastModifiedBy>
  <dcterms:modified xsi:type="dcterms:W3CDTF">2003-01-14T01:37:34Z</dcterms:modified>
  <cp:revision>80</cp:revision>
  <dc:subject/>
  <dc:title>No Slide Title</dc:title>
</cp:coreProperties>
</file>