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9560" y="64771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2 R. C. Gonzalez &amp;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5320" y="1874880"/>
            <a:ext cx="6294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7800" y="1928880"/>
            <a:ext cx="5181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9400" y="1625760"/>
            <a:ext cx="54514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82560" y="1647720"/>
            <a:ext cx="62946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54240" y="1589040"/>
            <a:ext cx="3157560" cy="5232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1640" y="1676520"/>
            <a:ext cx="11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27320" y="1930320"/>
            <a:ext cx="5074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6320" y="1844640"/>
            <a:ext cx="5889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9680" y="1697040"/>
            <a:ext cx="52038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8840" y="1903320"/>
            <a:ext cx="5045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30400" y="1671480"/>
            <a:ext cx="50832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39720" y="1805040"/>
            <a:ext cx="62708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13040" y="1978200"/>
            <a:ext cx="5448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70120" y="1608120"/>
            <a:ext cx="58053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8840" y="2035080"/>
            <a:ext cx="50832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6120" y="1596960"/>
            <a:ext cx="54892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3160" y="2084400"/>
            <a:ext cx="51976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8480" y="1766880"/>
            <a:ext cx="57070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81160" y="1611360"/>
            <a:ext cx="5091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43120" y="1679400"/>
            <a:ext cx="5654520" cy="43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63840" y="1566720"/>
            <a:ext cx="6294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5960" y="1859040"/>
            <a:ext cx="5051160" cy="3336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32840" y="1816200"/>
            <a:ext cx="98244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36880" y="1762200"/>
            <a:ext cx="6164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9000" y="2141640"/>
            <a:ext cx="62787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39760" y="1793880"/>
            <a:ext cx="5083200" cy="477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50040" y="1760400"/>
            <a:ext cx="982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30560" y="1998720"/>
            <a:ext cx="5089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44720" y="1770120"/>
            <a:ext cx="5273640" cy="450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79400" y="1425600"/>
            <a:ext cx="56404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58840" y="205272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94000" y="1787400"/>
            <a:ext cx="5959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06720" y="1590840"/>
            <a:ext cx="613404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30400" y="1973160"/>
            <a:ext cx="50832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27160" y="2090880"/>
            <a:ext cx="50896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30400" y="2098800"/>
            <a:ext cx="50832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46240" y="2109960"/>
            <a:ext cx="50515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08320" y="1682640"/>
            <a:ext cx="53830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8720" y="1962000"/>
            <a:ext cx="59436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97040" y="1843200"/>
            <a:ext cx="59212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36640" y="1824120"/>
            <a:ext cx="56847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6400" y="1843200"/>
            <a:ext cx="62708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23920" y="1738440"/>
            <a:ext cx="5083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86000" y="2022480"/>
            <a:ext cx="63705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29400" y="500040"/>
            <a:ext cx="489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rphological 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23920" y="1827360"/>
            <a:ext cx="5075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5-11-09T17:42:57Z</dcterms:modified>
  <cp:revision>74</cp:revision>
  <dc:subject/>
  <dc:title>No Slide Title</dc:title>
</cp:coreProperties>
</file>