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5080" y="1989000"/>
            <a:ext cx="63324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3840" y="1574640"/>
            <a:ext cx="596124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11320" y="2095560"/>
            <a:ext cx="5121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0640" y="2160720"/>
            <a:ext cx="55627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51000" y="1616040"/>
            <a:ext cx="6069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00" y="1606680"/>
            <a:ext cx="4556160" cy="4694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98880" y="5432400"/>
            <a:ext cx="4168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22520" y="1612800"/>
            <a:ext cx="62942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7040" y="2089080"/>
            <a:ext cx="53038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6040" y="1811160"/>
            <a:ext cx="6134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1817640"/>
            <a:ext cx="64008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0360" y="2116080"/>
            <a:ext cx="53038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17680" y="1763640"/>
            <a:ext cx="6308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32080" y="2533680"/>
            <a:ext cx="6278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5080" y="2122560"/>
            <a:ext cx="63324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30400" y="2171880"/>
            <a:ext cx="508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468440"/>
            <a:ext cx="3827520" cy="5351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28960" y="6348240"/>
            <a:ext cx="53420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0360" y="1614600"/>
            <a:ext cx="582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4280" y="1601640"/>
            <a:ext cx="5700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58800" y="1641600"/>
            <a:ext cx="13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. 7.24 (Con’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55680" y="2390760"/>
            <a:ext cx="4861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50960" y="1625760"/>
            <a:ext cx="6012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8560" y="1573200"/>
            <a:ext cx="45244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96960" y="2268360"/>
            <a:ext cx="5975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41560" y="1593720"/>
            <a:ext cx="625644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1440" y="2030400"/>
            <a:ext cx="62406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41560" y="2075040"/>
            <a:ext cx="50594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50800" y="1681200"/>
            <a:ext cx="6248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1360" y="1905120"/>
            <a:ext cx="58136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09640" y="2247840"/>
            <a:ext cx="572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13000" y="2414520"/>
            <a:ext cx="63165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20920" y="1751040"/>
            <a:ext cx="63021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51200" y="1774800"/>
            <a:ext cx="54482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32080" y="2117880"/>
            <a:ext cx="62784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01960" y="1330200"/>
            <a:ext cx="4513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43080" y="1879560"/>
            <a:ext cx="7288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8400" y="2149560"/>
            <a:ext cx="60577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50880" y="2068560"/>
            <a:ext cx="6042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38280" y="1668600"/>
            <a:ext cx="606600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52520" y="1603440"/>
            <a:ext cx="6088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81840" y="452520"/>
            <a:ext cx="6010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avelets and Multiresolu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21040" y="1596960"/>
            <a:ext cx="54306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4T01:35:16Z</dcterms:modified>
  <cp:revision>57</cp:revision>
  <dc:subject/>
  <dc:title>No Slide Title</dc:title>
</cp:coreProperties>
</file>