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4556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76360" y="1666800"/>
            <a:ext cx="43862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413000" y="2090880"/>
            <a:ext cx="63165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52720" y="1782720"/>
            <a:ext cx="5037120" cy="32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68640" y="1582560"/>
            <a:ext cx="3151080" cy="47372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41560" y="6332400"/>
            <a:ext cx="5346720" cy="5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637000" y="1593720"/>
            <a:ext cx="3813120" cy="522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24160" y="1822320"/>
            <a:ext cx="629424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33760" y="1579680"/>
            <a:ext cx="359712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46120" y="1785960"/>
            <a:ext cx="6264360" cy="37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09760" y="1771560"/>
            <a:ext cx="6324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955960" y="1611360"/>
            <a:ext cx="352584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0560" y="1990800"/>
            <a:ext cx="6332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440" y="1816200"/>
            <a:ext cx="626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413000" y="1755720"/>
            <a:ext cx="631656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17680" y="1914480"/>
            <a:ext cx="63086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166840" y="1649520"/>
            <a:ext cx="479124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419120" y="1822320"/>
            <a:ext cx="630252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417680" y="1965240"/>
            <a:ext cx="6308640" cy="28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420920" y="2033640"/>
            <a:ext cx="630216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13000" y="1838160"/>
            <a:ext cx="63165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181240" y="1662120"/>
            <a:ext cx="4892760" cy="51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62240" y="1652760"/>
            <a:ext cx="5346360" cy="49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47640" y="1582560"/>
            <a:ext cx="628668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09760" y="1824120"/>
            <a:ext cx="6324480" cy="33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60640" y="1870200"/>
            <a:ext cx="63403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33240" y="2201760"/>
            <a:ext cx="627876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2631960" y="3397320"/>
            <a:ext cx="58294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39920" y="2311560"/>
            <a:ext cx="629424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08080" y="1981080"/>
            <a:ext cx="629460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95440" y="2616120"/>
            <a:ext cx="539460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38360" y="1584360"/>
            <a:ext cx="5651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66920" y="1569960"/>
            <a:ext cx="3922920" cy="52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778040" y="1639800"/>
            <a:ext cx="576108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70400" y="3349800"/>
            <a:ext cx="2689200" cy="2682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073400" y="6059520"/>
            <a:ext cx="5051520" cy="426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365120" y="1816200"/>
            <a:ext cx="2568600" cy="25527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120600" y="4467240"/>
            <a:ext cx="5037120" cy="2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84600" y="1639800"/>
            <a:ext cx="434952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050920" y="1592280"/>
            <a:ext cx="5432400" cy="49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28800" y="1927080"/>
            <a:ext cx="63403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008080" y="1882800"/>
            <a:ext cx="5089680" cy="4152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53280" y="1874880"/>
            <a:ext cx="69372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046240" y="1790640"/>
            <a:ext cx="5051520" cy="32767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7207200" y="1838160"/>
            <a:ext cx="693720" cy="3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035080" y="1909800"/>
            <a:ext cx="5089680" cy="26287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226280" y="1893960"/>
            <a:ext cx="69372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927080" y="2076480"/>
            <a:ext cx="549432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19240" y="2009880"/>
            <a:ext cx="510552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1960" y="1979640"/>
            <a:ext cx="54021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122560" y="1639800"/>
            <a:ext cx="489888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882720" y="2008080"/>
            <a:ext cx="5440320" cy="24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35840" y="385920"/>
            <a:ext cx="40579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Image Enhancement in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requency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52600" y="1766880"/>
            <a:ext cx="62564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3T23:27:14Z</dcterms:modified>
  <cp:revision>32</cp:revision>
  <dc:subject/>
  <dc:title>No Slide Title</dc:title>
</cp:coreProperties>
</file>