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25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76320"/>
          <a:ext cx="2301840" cy="190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76320"/>
                    <a:ext cx="2301840" cy="19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" name="book" descr=""/>
          <p:cNvPicPr/>
          <p:nvPr/>
        </p:nvPicPr>
        <p:blipFill>
          <a:blip r:embed="rId4"/>
          <a:stretch/>
        </p:blipFill>
        <p:spPr>
          <a:xfrm>
            <a:off x="6480" y="4680"/>
            <a:ext cx="1103040" cy="14479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00640" y="9360"/>
            <a:ext cx="39618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Digital Image Processing, 2nd 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950160" y="228600"/>
            <a:ext cx="257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www.imageprocessingbook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H="1">
            <a:off x="-193680" y="6858000"/>
            <a:ext cx="93376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H="1">
            <a:off x="1152360" y="12600"/>
            <a:ext cx="79804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1660320" y="1552680"/>
            <a:ext cx="747684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flipH="1">
            <a:off x="1933200" y="419040"/>
            <a:ext cx="721044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78120" y="6477120"/>
            <a:ext cx="21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2 R. C.  Gonzalez &amp;  R. E.  Woo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43400" y="722160"/>
            <a:ext cx="5795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2: Digital Image Fundamen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644920" y="1725480"/>
            <a:ext cx="518148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643400" y="722160"/>
            <a:ext cx="5795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2: Digital Image Fundamen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305000" y="1579680"/>
            <a:ext cx="651492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643400" y="722160"/>
            <a:ext cx="5795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2: Digital Image Fundamen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14520" y="2087640"/>
            <a:ext cx="557028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643400" y="722160"/>
            <a:ext cx="5795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2: Digital Image Fundamen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033640" y="1604880"/>
            <a:ext cx="592596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643400" y="722160"/>
            <a:ext cx="5795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2: Digital Image Fundamen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976400" y="2297160"/>
            <a:ext cx="518940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643400" y="722160"/>
            <a:ext cx="5795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2: Digital Image Fundamen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322280" y="1751040"/>
            <a:ext cx="6499440" cy="46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643400" y="722160"/>
            <a:ext cx="5795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2: Digital Image Fundamen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297080" y="1660680"/>
            <a:ext cx="651492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643400" y="722160"/>
            <a:ext cx="5795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2: Digital Image Fundamen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397240" y="1616040"/>
            <a:ext cx="5035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643400" y="722160"/>
            <a:ext cx="5795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2: Digital Image Fundamen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973160" y="1657440"/>
            <a:ext cx="51976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43400" y="722160"/>
            <a:ext cx="5795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2: Digital Image Fundamen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293920" y="1693800"/>
            <a:ext cx="531828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643400" y="722160"/>
            <a:ext cx="5795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2: Digital Image Fundamen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333440" y="2068560"/>
            <a:ext cx="647712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643400" y="722160"/>
            <a:ext cx="5795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2: Digital Image Fundamen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825560" y="1860480"/>
            <a:ext cx="627084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643400" y="722160"/>
            <a:ext cx="5795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2: Digital Image Fundamen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325520" y="1660680"/>
            <a:ext cx="6492960" cy="35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643400" y="722160"/>
            <a:ext cx="5795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2: Digital Image Fundamen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77800" y="1579680"/>
            <a:ext cx="6175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643400" y="722160"/>
            <a:ext cx="5795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2: Digital Image Fundamen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451240" y="1593720"/>
            <a:ext cx="5278320" cy="512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643400" y="722160"/>
            <a:ext cx="5795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2: Digital Image Fundamen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887480" y="1566720"/>
            <a:ext cx="535464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643400" y="722160"/>
            <a:ext cx="5795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2: Digital Image Fundamen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336680" y="1989000"/>
            <a:ext cx="646920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643400" y="722160"/>
            <a:ext cx="5795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2: Digital Image Fundamen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638360" y="1779480"/>
            <a:ext cx="484668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643400" y="722160"/>
            <a:ext cx="5795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2: Digital Image Fundamen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938240" y="1878120"/>
            <a:ext cx="5265720" cy="31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643400" y="722160"/>
            <a:ext cx="5795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2: Digital Image Fundamen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365120" y="1574640"/>
            <a:ext cx="6381720" cy="51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643400" y="722160"/>
            <a:ext cx="5795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2: Digital Image Fundamen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965240" y="1971720"/>
            <a:ext cx="5189760" cy="150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43400" y="722160"/>
            <a:ext cx="5795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2: Digital Image Fundamen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20680" y="2076480"/>
            <a:ext cx="6454800" cy="15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643400" y="722160"/>
            <a:ext cx="5795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2: Digital Image Fundamen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81360" y="1897200"/>
            <a:ext cx="515916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643400" y="722160"/>
            <a:ext cx="5795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2: Digital Image Fundamen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532320" y="1889280"/>
            <a:ext cx="4846680" cy="13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643400" y="722160"/>
            <a:ext cx="5795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2: Digital Image Fundamen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544760" y="2025720"/>
            <a:ext cx="542592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643400" y="722160"/>
            <a:ext cx="5795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2: Digital Image Fundamen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119320" y="1614600"/>
            <a:ext cx="5516640" cy="48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643400" y="722160"/>
            <a:ext cx="5795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2: Digital Image Fundamen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984320" y="1808280"/>
            <a:ext cx="517356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643400" y="722160"/>
            <a:ext cx="5795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2: Digital Image Fundamen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65360" y="1601640"/>
            <a:ext cx="63943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6T17:51:11Z</dcterms:created>
  <dc:creator>Gonzalez</dc:creator>
  <dc:description/>
  <dc:language>en-US</dc:language>
  <cp:lastModifiedBy>Gonzalez</cp:lastModifiedBy>
  <dcterms:modified xsi:type="dcterms:W3CDTF">2003-01-13T19:56:28Z</dcterms:modified>
  <cp:revision>19</cp:revision>
  <dc:subject/>
  <dc:title>No Slide Title</dc:title>
</cp:coreProperties>
</file>