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76320"/>
          <a:ext cx="2301840" cy="190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76320"/>
                    <a:ext cx="2301840" cy="19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" name="book" descr=""/>
          <p:cNvPicPr/>
          <p:nvPr/>
        </p:nvPicPr>
        <p:blipFill>
          <a:blip r:embed="rId4"/>
          <a:stretch/>
        </p:blipFill>
        <p:spPr>
          <a:xfrm>
            <a:off x="6480" y="4680"/>
            <a:ext cx="1103040" cy="14479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00640" y="9360"/>
            <a:ext cx="39618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Digital Image Processing, 2nd 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950160" y="228600"/>
            <a:ext cx="257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www.imageprocessingbook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H="1">
            <a:off x="-193680" y="6858000"/>
            <a:ext cx="93376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H="1">
            <a:off x="1152360" y="12600"/>
            <a:ext cx="79804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1660320" y="1552680"/>
            <a:ext cx="747684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flipH="1">
            <a:off x="1933200" y="419040"/>
            <a:ext cx="721044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77760" y="6477120"/>
            <a:ext cx="20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2 R. C. Gonzalez &amp;  R. E. Woo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791800" y="685800"/>
            <a:ext cx="3541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: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3360600" y="1771560"/>
          <a:ext cx="4930920" cy="14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60600" y="1771560"/>
                    <a:ext cx="4930920" cy="14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766800" y="3809880"/>
            <a:ext cx="439740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791800" y="685800"/>
            <a:ext cx="3541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: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003400" y="1938240"/>
            <a:ext cx="513576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791800" y="685800"/>
            <a:ext cx="3541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: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117960" y="1946160"/>
            <a:ext cx="4359240" cy="28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791800" y="685800"/>
            <a:ext cx="3541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: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144880" y="1562040"/>
            <a:ext cx="48686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91800" y="685800"/>
            <a:ext cx="3541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: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065320" y="1638360"/>
            <a:ext cx="501336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791800" y="685800"/>
            <a:ext cx="3541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: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817640" y="1581120"/>
            <a:ext cx="492300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791800" y="685800"/>
            <a:ext cx="3541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: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716200" y="1708200"/>
            <a:ext cx="486108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791800" y="685800"/>
            <a:ext cx="3541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: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585800" y="1838160"/>
            <a:ext cx="457992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791800" y="685800"/>
            <a:ext cx="3541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: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85880" y="1828800"/>
            <a:ext cx="391644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791800" y="685800"/>
            <a:ext cx="3541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: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130480" y="1892160"/>
            <a:ext cx="4860720" cy="14558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1920" y="3909960"/>
            <a:ext cx="486108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791800" y="685800"/>
            <a:ext cx="3541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: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630520" y="1763640"/>
            <a:ext cx="486900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791800" y="685800"/>
            <a:ext cx="3541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: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16040" y="2157480"/>
            <a:ext cx="5127480" cy="23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791800" y="685800"/>
            <a:ext cx="3541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: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604960" y="1811160"/>
            <a:ext cx="391644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791800" y="685800"/>
            <a:ext cx="3541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: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633760" y="1785960"/>
            <a:ext cx="48607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791800" y="685800"/>
            <a:ext cx="3541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: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23720" y="1606680"/>
            <a:ext cx="815508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791800" y="685800"/>
            <a:ext cx="3541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: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370240" y="1633680"/>
            <a:ext cx="60451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791800" y="685800"/>
            <a:ext cx="3541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: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01840" y="1803240"/>
            <a:ext cx="513576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791800" y="685800"/>
            <a:ext cx="3541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: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390680" y="1935000"/>
            <a:ext cx="6378480" cy="13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791800" y="685800"/>
            <a:ext cx="3541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: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60640" y="1571760"/>
            <a:ext cx="48765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791800" y="685800"/>
            <a:ext cx="3541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: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843280" y="1569960"/>
            <a:ext cx="3406680" cy="52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791800" y="685800"/>
            <a:ext cx="3541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: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679400" y="1565280"/>
            <a:ext cx="48769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791800" y="685800"/>
            <a:ext cx="3541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: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625840" y="1581120"/>
            <a:ext cx="3908160" cy="52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791800" y="685800"/>
            <a:ext cx="3541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: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31880" y="1771560"/>
            <a:ext cx="4930920" cy="19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6T17:51:11Z</dcterms:created>
  <dc:creator>Gonzalez</dc:creator>
  <dc:description/>
  <dc:language>en-US</dc:language>
  <cp:lastModifiedBy>Gonzalez</cp:lastModifiedBy>
  <dcterms:modified xsi:type="dcterms:W3CDTF">2003-01-13T20:00:46Z</dcterms:modified>
  <cp:revision>13</cp:revision>
  <dc:subject/>
  <dc:title>No Slide Title</dc:title>
</cp:coreProperties>
</file>